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4E2A-1DC3-435D-BE50-848A2B4F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9402-A3D8-4BD2-9823-2BA0F2AE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1C0C1-8526-40F2-B3AB-6537D2C8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F249-F40E-483B-BC44-8766050D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D5BB-6C71-4542-921C-CE33E103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500A-C19A-4D03-A170-84EAF628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6440-2872-4C75-ACE1-14918C01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85FD-7339-4D20-9946-8D7983D7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5818-EA80-4185-BC98-95F4610A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C394-A980-4418-9816-AD1D7F3E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EDC2-712B-4CC0-A027-5D0A6C47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F9BA-2126-4FC9-8B0F-C3E965CF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005D-990E-41B1-83B6-B5D1455D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E551-99B7-4235-8AE1-4C4ABC76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89C8-E6AD-48E6-88EB-5051F39A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F2AF-336B-42AD-8F6A-9CB43AEF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7404-0F35-4064-B5EA-81EF99D5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2BDA-BEBD-40D3-89C6-E17B5B29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3AD8-DAD7-4B12-8D59-BCC2B400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B80E-4876-442C-8D88-D5817EC7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286B-06DE-4C90-93E6-F3168471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F106-9CD2-4002-8A73-1DE82DDD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B5A8-4688-4C22-BBBE-3165C935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50F6-6D05-4BF8-8CCA-0CDFC4F6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E704-5174-4FE7-B7BF-55D21C37893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F168-3543-463E-9D74-A5D8EB3B2AF4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dfdef6"/>
                </a:solidFill>
                <a:latin typeface="Arial"/>
              </a:rPr>
              <a:t>Közösségi hálózatok 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A "közösségi hálózat" fogalma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hálózatot jelent, melynek tagjai kapcsolatba léphetnek, kommunikálhatnak egymáss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embereket "szolgál ki", akiket közös érdeklődési körük köt össsz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letartozhatnak a fogalomba a fórumok, a videómegosztók, akár az azonnali üzenetküldő szolgáltatások is.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788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özösségi hálózatok felépítése, működ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elhasználó felvétele a hálózatba rendszerint egy űrlap kitöltésével kezdőd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ényképek feltöltése a profiloldal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 kinézetét is teljesen kedvünkre alakíthatjuk, beépített sablonok vagy alapvető web-szerkesztési ismeretek segítségév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oldalak nyilvánossága szolgáltatónként változi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n, ahol csak regisztrált tagok léphetnek be az oldal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yilvános, de be lehet állítani, hogy ki láthatja a profilunka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kapcsolat "hitelesítéséhez" kétoldalú visszajelzés szüksé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legtöbb közösségi hálózat biztosít privát üzenetküldési lehetőséget, valamint nyilvános üzenő falat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éhány példa Magyarországról és a nagyvilágb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wi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2-ben indult a legismertebb magyar közösségi oldal, a wiw (who is who), az iwiw nevet 2005-ben vette fel. A rendszer meghívásos alapon működik és zárt, tehát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enki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nem láthatja a profilokat, aki nem tag. Létrehozhatjuk saját profilunkat, kereshetünk ismerősök és ismeretlenek között egyaránt, van benne privát üzenetküldés és üzenőfal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yVI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másik nagy magyar közösségi oldal. 2006-ban indult, szintén meghívásos alapú. A korlátlan meghívóküldés és képfeltöltés teszi vonzóvá a felhasználók köréb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b0a25"/>
                </a:solidFill>
                <a:latin typeface="Arial"/>
              </a:rPr>
              <a:t>Mysp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3-ban, Californiában indult. Elindult az oldal népszerű zenei része, ahol a zenekarok speciális profilt hozhatnak létre. Zene- és videómegosztó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aceboo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acebook 2004-ben a Harvard Egyetem zárt hálózataként indult. A csatlakozás 2005-től mindenki számára lehetségessé vált. Az oldal különlegességét az úgynevezett minialkalmazások  jelentik, melyeket bárki szabadon építhet, módosíthat, bővítve ezzel a profilok tartalmá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Új kapcsolatokra tehetünk sze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egít az embereknek munkaválasztásb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sszehozza a közös érdeklődéssel rendelkező embere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zok számára, akik nehezen fejezik ki magukat személyese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nagyobb komfortérzetet 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átrányo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nline kapcsolatok a személyes találkozások helyet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üggőséget okozn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áros hatással vannak az egyéniségünk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elhasználók egy része nem az akinek mondja magát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személyes információk sebezhetővé tesznek min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738760" cy="1152720"/>
          </a:xfrm>
          <a:prstGeom prst="rect">
            <a:avLst/>
          </a:prstGeom>
          <a:ln w="0">
            <a:noFill/>
          </a:ln>
        </p:spPr>
      </p:pic>
      <p:sp>
        <p:nvSpPr>
          <p:cNvPr id="520" name="BlokTextu 8"/>
          <p:cNvSpPr/>
          <p:nvPr/>
        </p:nvSpPr>
        <p:spPr>
          <a:xfrm>
            <a:off x="539640" y="40464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tevékenységeket milyen rendszerességgel végez a közösségi portálok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Graf 11" descr=""/>
          <p:cNvPicPr/>
          <p:nvPr/>
        </p:nvPicPr>
        <p:blipFill>
          <a:blip r:embed="rId2"/>
          <a:stretch/>
        </p:blipFill>
        <p:spPr>
          <a:xfrm>
            <a:off x="1616040" y="3786120"/>
            <a:ext cx="5570640" cy="2730600"/>
          </a:xfrm>
          <a:prstGeom prst="rect">
            <a:avLst/>
          </a:prstGeom>
          <a:ln w="0">
            <a:noFill/>
          </a:ln>
        </p:spPr>
      </p:pic>
      <p:sp>
        <p:nvSpPr>
          <p:cNvPr id="522" name="BlokTextu 12"/>
          <p:cNvSpPr/>
          <p:nvPr/>
        </p:nvSpPr>
        <p:spPr>
          <a:xfrm>
            <a:off x="539640" y="278136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z alábbiak közül mely közösségi portálo(ko)n van regisztrál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t gondol az alábbi állításról? "Szükség lenne a közösségi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ortálok üzenőfalain moderátorra, aki figyelemmel kíséri és törli az oda nem tartozó üzenetek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Graf 5" descr=""/>
          <p:cNvPicPr/>
          <p:nvPr/>
        </p:nvPicPr>
        <p:blipFill>
          <a:blip r:embed="rId3"/>
          <a:stretch/>
        </p:blipFill>
        <p:spPr>
          <a:xfrm>
            <a:off x="2262240" y="1481040"/>
            <a:ext cx="4619520" cy="2457720"/>
          </a:xfrm>
          <a:prstGeom prst="rect">
            <a:avLst/>
          </a:prstGeom>
          <a:ln w="0">
            <a:noFill/>
          </a:ln>
        </p:spPr>
      </p:pic>
      <p:sp>
        <p:nvSpPr>
          <p:cNvPr id="525" name="BlokTextu 3"/>
          <p:cNvSpPr/>
          <p:nvPr/>
        </p:nvSpPr>
        <p:spPr>
          <a:xfrm>
            <a:off x="900000" y="414972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nnyire tartja szükségesnek a személyességi adatok védelmé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Graf 6" descr=""/>
          <p:cNvPicPr/>
          <p:nvPr/>
        </p:nvPicPr>
        <p:blipFill>
          <a:blip r:embed="rId4"/>
          <a:stretch/>
        </p:blipFill>
        <p:spPr>
          <a:xfrm>
            <a:off x="2189160" y="4645080"/>
            <a:ext cx="4692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Graf 3" descr=""/>
          <p:cNvPicPr/>
          <p:nvPr/>
        </p:nvPicPr>
        <p:blipFill>
          <a:blip r:embed="rId6"/>
          <a:stretch/>
        </p:blipFill>
        <p:spPr>
          <a:xfrm>
            <a:off x="1542960" y="1335240"/>
            <a:ext cx="6058080" cy="3322440"/>
          </a:xfrm>
          <a:prstGeom prst="rect">
            <a:avLst/>
          </a:prstGeom>
          <a:ln w="0">
            <a:noFill/>
          </a:ln>
        </p:spPr>
      </p:pic>
      <p:sp>
        <p:nvSpPr>
          <p:cNvPr id="529" name="BlokTextu 5"/>
          <p:cNvSpPr/>
          <p:nvPr/>
        </p:nvSpPr>
        <p:spPr>
          <a:xfrm>
            <a:off x="900000" y="6922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rendszerességgel használja az internete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Kért már bármilyen segítséget valamely közösségi portál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Graf 3" descr=""/>
          <p:cNvPicPr/>
          <p:nvPr/>
        </p:nvPicPr>
        <p:blipFill>
          <a:blip r:embed="rId3"/>
          <a:stretch/>
        </p:blipFill>
        <p:spPr>
          <a:xfrm>
            <a:off x="1828800" y="974880"/>
            <a:ext cx="4906800" cy="2457360"/>
          </a:xfrm>
          <a:prstGeom prst="rect">
            <a:avLst/>
          </a:prstGeom>
          <a:ln w="0">
            <a:noFill/>
          </a:ln>
        </p:spPr>
      </p:pic>
      <p:sp>
        <p:nvSpPr>
          <p:cNvPr id="532" name="BlokTextu 4"/>
          <p:cNvSpPr/>
          <p:nvPr/>
        </p:nvSpPr>
        <p:spPr>
          <a:xfrm>
            <a:off x="395280" y="35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smerősei közül mennyivel tartja rendszeresen a kapcsolato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Graf 6" descr=""/>
          <p:cNvPicPr/>
          <p:nvPr/>
        </p:nvPicPr>
        <p:blipFill>
          <a:blip r:embed="rId4"/>
          <a:stretch/>
        </p:blipFill>
        <p:spPr>
          <a:xfrm>
            <a:off x="0" y="0"/>
            <a:ext cx="655956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Arial"/>
              </a:rPr>
              <a:t>Köszönöm a figyelmet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42:34Z</dcterms:created>
  <dc:creator>Tünde</dc:creator>
  <dc:description/>
  <dc:language>en-US</dc:language>
  <cp:lastModifiedBy>Magyar</cp:lastModifiedBy>
  <dcterms:modified xsi:type="dcterms:W3CDTF">2013-04-10T13:04:33Z</dcterms:modified>
  <cp:revision>25</cp:revision>
  <dc:subject/>
  <dc:title>Közösségi háló – Sociálna sieť - Social Network</dc:title>
</cp:coreProperties>
</file>