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78803-C123-4DEC-8877-4593241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C5390-2D05-4911-A0C7-D2827271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3AC41-A07E-46B7-9CC1-E59AA5BF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ABBA-908E-4AB2-8EA1-E71993E30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263F-4CCE-435D-B8AD-C6BC44A9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D6851-00DF-4D08-9164-D9C7FEE6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EFAE-8AB7-4E32-8EA8-7A514F4A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8846-F694-4BFE-9F36-19EF1A846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3791-AD70-4F09-8565-63B841383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0CEF1-E6CF-42B2-ABE6-2141DE17C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AE3A-4219-4DF5-8E69-3D377A54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9ABAA-30FA-4D91-97C6-C8CB707A7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7B58D-84F6-40F8-A2FD-CA0D51909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E674F-D3B4-4EE7-8EBB-FF30D8F34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6D5A-555D-4204-96B7-0580AAF51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D706-5CA8-4200-BDA9-4A78F4CE9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9AA66-76BA-4775-BD84-ECAC7D92C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80BEE-6598-4F0B-AE44-966D62B2A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E76E-9192-4DBB-83D2-3B9B0B08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2B32-F2E8-4B66-A449-A1F77DCF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A0E2-A253-4D88-BA33-2B8C80338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D3A2-D709-4EAD-B5F8-B6CF5EECA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C3EA7-6307-4BE8-A490-B548D083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2DE24-05B2-4985-8DEE-B8BF284C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9DB1-08D3-4ED1-A0AC-978FADBAA36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2E2A-CDA2-4E62-BE22-E12936837174}" type="slidenum">
              <a:rPr b="0" lang="hu-H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dfdef6"/>
                </a:solidFill>
                <a:latin typeface="Arial"/>
              </a:rPr>
              <a:t>Közösségi hálózatok  </a:t>
            </a:r>
            <a:endParaRPr b="0" lang="en-US" sz="36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7991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 "közösségi hálózat" fogalma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hálózatot jelent, melynek tagjai kapcsolatba léphetnek, kommunikálhatnak egymáss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olyan embereket "szolgál ki", akiket közös érdeklődési körük köt össsz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9999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letartozhatnak a fogalomba a fórumok, a videómegosztók, akár az azonnali üzenetküldő szolgáltatások is.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5788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özösségi hálózatok felépítése, működ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használó felvétele a hálózatba rendszerint egy űrlap kitöltésével kezdődi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ényképek feltöltése a profiloldalr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 kinézetét is teljesen kedvünkre alakíthatjuk, beépített sablonok vagy alapvető web-szerkesztési ismeretek segítségév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profiloldalak nyilvánossága szolgáltatónként változi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n, ahol csak regisztrált tagok léphetnek be az oldal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nyilvános, de be lehet állítani, hogy ki láthatja a profilunkat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kapcsolat "hitelesítéséhez" kétoldalú visszajelzés szükség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legtöbb közösségi hálózat biztosít privát üzenetküldési lehetőséget, valamint nyilvános üzenő falat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24000" y="404280"/>
            <a:ext cx="864072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éhány példa Magyarországról és a nagyvilág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wi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2-ben indult a legismertebb magyar közösségi oldal, a wiw (who is who), az iwiw nevet 2005-ben vette fel. A rendszer meghívásos alapon működik és zárt, tehát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nki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 nem láthatja a profilokat, aki nem tag. Létrehozhatjuk saját profilunkat, kereshetünk ismerősök és ismeretlenek között egyaránt, van benne privát üzenetküldés és üzenőfal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yVIP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másik nagy magyar közösségi oldal. 2006-ban indult, szintén meghívásos alapú. A korlátlan meghívóküldés és képfeltöltés teszi vonzóvá a felhasználók körébe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b0a25"/>
                </a:solidFill>
                <a:latin typeface="Arial"/>
              </a:rPr>
              <a:t>Myspac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2003-ban, Californiában indult. Elindult az oldal népszerű zenei része, ahol a zenekarok speciális profilt hozhatnak létre. Zene- és videómegosztó 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Faceboo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acebook 2004-ben a Harvard Egyetem zárt hálózataként indult. A csatlakozás 2005-től mindenki számára lehetségessé vált. Az oldal különlegességét az úgynevezett minialkalmazások  jelentik, melyeket bárki szabadon építhet, módosíthat, bővítve ezzel a profilok tartalmát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/>
          </p:nvPr>
        </p:nvSpPr>
        <p:spPr>
          <a:xfrm>
            <a:off x="0" y="404280"/>
            <a:ext cx="91440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Arial"/>
              </a:rPr>
              <a:t>Előnyö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Új kapcsolatokra tehetünk sze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Segít az embereknek munkaválasztásba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Összehozza a közös érdeklődéssel rendelkező embere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Azok számára, akik nehezen fejezik ki magukat személyesen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ffffff"/>
                </a:solidFill>
                <a:latin typeface="Arial"/>
              </a:rPr>
              <a:t>nagyobb komfortérzetet 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Hátrányo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Online kapcsolatok a személyes találkozások helyet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Függőséget okozna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Káros hatással vannak az egyéniségünk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felhasználók egy része nem az akinek mondja magát</a:t>
            </a:r>
            <a:r>
              <a:rPr b="1" lang="hu-H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A személyes információk sebezhetővé tesznek minke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6" descr=""/>
          <p:cNvPicPr/>
          <p:nvPr/>
        </p:nvPicPr>
        <p:blipFill>
          <a:blip r:embed="rId1"/>
          <a:stretch/>
        </p:blipFill>
        <p:spPr>
          <a:xfrm>
            <a:off x="1619280" y="1341360"/>
            <a:ext cx="5738760" cy="1152720"/>
          </a:xfrm>
          <a:prstGeom prst="rect">
            <a:avLst/>
          </a:prstGeom>
          <a:ln w="0">
            <a:noFill/>
          </a:ln>
        </p:spPr>
      </p:pic>
      <p:sp>
        <p:nvSpPr>
          <p:cNvPr id="520" name="BlokTextu 8"/>
          <p:cNvSpPr/>
          <p:nvPr/>
        </p:nvSpPr>
        <p:spPr>
          <a:xfrm>
            <a:off x="539640" y="404640"/>
            <a:ext cx="748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tevékenységeket milyen rendszerességgel végez a közösségi portálok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Graf 11" descr=""/>
          <p:cNvPicPr/>
          <p:nvPr/>
        </p:nvPicPr>
        <p:blipFill>
          <a:blip r:embed="rId2"/>
          <a:stretch/>
        </p:blipFill>
        <p:spPr>
          <a:xfrm>
            <a:off x="1616040" y="3786120"/>
            <a:ext cx="5570640" cy="2730600"/>
          </a:xfrm>
          <a:prstGeom prst="rect">
            <a:avLst/>
          </a:prstGeom>
          <a:ln w="0">
            <a:noFill/>
          </a:ln>
        </p:spPr>
      </p:pic>
      <p:sp>
        <p:nvSpPr>
          <p:cNvPr id="522" name="BlokTextu 12"/>
          <p:cNvSpPr/>
          <p:nvPr/>
        </p:nvSpPr>
        <p:spPr>
          <a:xfrm>
            <a:off x="539640" y="2781360"/>
            <a:ext cx="71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Az alábbiak közül mely közösségi portálo(ko)n van regisztrálv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457200" y="40428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t gondol az alábbi állításról? "Szükség lenne a közösségi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ortálok üzenőfalain moderátorra, aki figyelemmel kíséri és törli az oda nem tartozó üzeneteke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4" name="Graf 5" descr=""/>
          <p:cNvPicPr/>
          <p:nvPr/>
        </p:nvPicPr>
        <p:blipFill>
          <a:blip r:embed="rId3"/>
          <a:stretch/>
        </p:blipFill>
        <p:spPr>
          <a:xfrm>
            <a:off x="2262240" y="1481040"/>
            <a:ext cx="4619520" cy="2457720"/>
          </a:xfrm>
          <a:prstGeom prst="rect">
            <a:avLst/>
          </a:prstGeom>
          <a:ln w="0">
            <a:noFill/>
          </a:ln>
        </p:spPr>
      </p:pic>
      <p:sp>
        <p:nvSpPr>
          <p:cNvPr id="525" name="BlokTextu 3"/>
          <p:cNvSpPr/>
          <p:nvPr/>
        </p:nvSpPr>
        <p:spPr>
          <a:xfrm>
            <a:off x="900000" y="414972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Mennyire tartja szükségesnek a személyességi adatok védelmé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Graf 6" descr=""/>
          <p:cNvPicPr/>
          <p:nvPr/>
        </p:nvPicPr>
        <p:blipFill>
          <a:blip r:embed="rId4"/>
          <a:stretch/>
        </p:blipFill>
        <p:spPr>
          <a:xfrm>
            <a:off x="2189160" y="4645080"/>
            <a:ext cx="469260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7200" y="333000"/>
            <a:ext cx="8229600" cy="58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Graf 3" descr=""/>
          <p:cNvPicPr/>
          <p:nvPr/>
        </p:nvPicPr>
        <p:blipFill>
          <a:blip r:embed="rId6"/>
          <a:stretch/>
        </p:blipFill>
        <p:spPr>
          <a:xfrm>
            <a:off x="1542960" y="1335240"/>
            <a:ext cx="6058080" cy="3322440"/>
          </a:xfrm>
          <a:prstGeom prst="rect">
            <a:avLst/>
          </a:prstGeom>
          <a:ln w="0">
            <a:noFill/>
          </a:ln>
        </p:spPr>
      </p:pic>
      <p:sp>
        <p:nvSpPr>
          <p:cNvPr id="529" name="BlokTextu 5"/>
          <p:cNvSpPr/>
          <p:nvPr/>
        </p:nvSpPr>
        <p:spPr>
          <a:xfrm>
            <a:off x="900000" y="692280"/>
            <a:ext cx="763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Arial"/>
              </a:rPr>
              <a:t>Milyen rendszerességgel használja az internetet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457200" y="476280"/>
            <a:ext cx="8229600" cy="56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ffff"/>
                </a:solidFill>
                <a:latin typeface="Arial"/>
              </a:rPr>
              <a:t>Kért már bármilyen segítséget valamely közösségi portál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Graf 3" descr=""/>
          <p:cNvPicPr/>
          <p:nvPr/>
        </p:nvPicPr>
        <p:blipFill>
          <a:blip r:embed="rId3"/>
          <a:stretch/>
        </p:blipFill>
        <p:spPr>
          <a:xfrm>
            <a:off x="1828800" y="974880"/>
            <a:ext cx="4906800" cy="2457360"/>
          </a:xfrm>
          <a:prstGeom prst="rect">
            <a:avLst/>
          </a:prstGeom>
          <a:ln w="0">
            <a:noFill/>
          </a:ln>
        </p:spPr>
      </p:pic>
      <p:sp>
        <p:nvSpPr>
          <p:cNvPr id="532" name="BlokTextu 4"/>
          <p:cNvSpPr/>
          <p:nvPr/>
        </p:nvSpPr>
        <p:spPr>
          <a:xfrm>
            <a:off x="395280" y="350028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smerősei közül mennyivel tartja rendszeresen a kapcsolato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3" name="Graf 6" descr=""/>
          <p:cNvPicPr/>
          <p:nvPr/>
        </p:nvPicPr>
        <p:blipFill>
          <a:blip r:embed="rId4"/>
          <a:stretch/>
        </p:blipFill>
        <p:spPr>
          <a:xfrm>
            <a:off x="0" y="0"/>
            <a:ext cx="6559560" cy="668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600" spc="-1" strike="noStrike">
                <a:solidFill>
                  <a:srgbClr val="ffffff"/>
                </a:solidFill>
                <a:latin typeface="Arial"/>
              </a:rPr>
              <a:t>Köszönöm a figyelmet!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3T16:42:34Z</dcterms:created>
  <dc:creator>Tünde</dc:creator>
  <dc:description/>
  <dc:language>en-US</dc:language>
  <cp:lastModifiedBy>Magyar</cp:lastModifiedBy>
  <dcterms:modified xsi:type="dcterms:W3CDTF">2013-04-10T13:04:33Z</dcterms:modified>
  <cp:revision>25</cp:revision>
  <dc:subject/>
  <dc:title>Közösségi háló – Sociálna sieť - Social Network</dc:title>
</cp:coreProperties>
</file>